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5.wmf" ContentType="image/x-wmf"/>
  <Override PartName="/ppt/media/image7.jpeg" ContentType="image/jpeg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26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02D79BA-147A-4A03-84B5-611BDF072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327EC2A-9D71-4D0B-A408-7435673CE7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BB50405-3B65-4FAD-B7C2-29173A1F42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101799B-719F-49D7-8721-69A712F52D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565B993-59EF-4CD4-A0CF-E291BF2FA4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2916D39-59E7-40A0-9A47-6D1C3F4BE2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EBB9DF7-0338-4DFE-97FB-6C18C025DB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E801ADF-8806-4B15-A127-27E4151B17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07BBE39-21E7-4AB3-80CC-D37059BEFF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31A9123-E036-4837-9CEC-F67C1E5974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D90EEA-C40B-4B2F-BE08-98B80975D7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7340D78-DDE0-427F-903B-36684C7E3B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313C085-6C1F-42CA-B3F1-E78087BCD8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14F7426-13CD-4FCE-9163-C8691CA0C9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B8815FC-8289-49B2-836C-06DA285539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75F-033D-4FBA-ADDC-26ABD3A8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0A4-22E9-474A-9C3B-3D826D69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7FA-EA71-44F6-90F1-935BF906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624-ABD8-4E7D-87DA-A58D592E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5B59-DADE-45E2-8A05-A4EEDD8E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A76D-538E-4AD8-847E-98EB0907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6DF8-24B0-424B-9870-F34EFAF2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9A9F-855C-4710-B123-AA8F4511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0EA4-F99C-4241-8187-09ABEEAD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0406-0263-4A03-9CBE-6C9204D1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2E9B-6484-4409-92BA-1AAD144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19C-3CFA-4246-B810-09B8FF6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E61B-920C-49C1-860A-9B418995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13F0-E305-4CE3-84BB-AF85F05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EA85-33BC-40CB-998B-19C890CE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3967-E489-45B6-96E3-09606CEF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5779-40EC-48F3-8469-7D934F11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A34-19A3-4926-B144-532599A8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E3D-BF9C-4291-B7C1-796C44E9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FEF-528D-4F05-84A3-4288C68A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56E-C77F-4755-913D-D5EE47AE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54B-5B94-4639-AD9E-ED7F5403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7D8-F293-496C-8FD4-98A3EE93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D57-A03A-4E33-893F-4FA5DD0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89AC-FBE7-4B2E-932D-22C3DC80A9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325E-9B27-4FD7-8D73-E9D5456AB5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and Wash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 After picking up item off flo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8.  After rest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.  After cough, sneeze, et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0.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fore &amp; after contact with mouth or mucous membran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pe02622_"/>
          <p:cNvPicPr/>
          <p:nvPr/>
        </p:nvPicPr>
        <p:blipFill>
          <a:blip r:embed="rId1"/>
          <a:stretch/>
        </p:blipFill>
        <p:spPr>
          <a:xfrm>
            <a:off x="4653000" y="2160720"/>
            <a:ext cx="4033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thod for Washing Hand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non-abrasive soap &amp; warm runn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b hands vigorous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h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rfaces for at least 15 seconds including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s of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fin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fingernai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nse 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y hands with paper tow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off water using paper towel instead of bar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MPj03999420000[1]"/>
          <p:cNvPicPr/>
          <p:nvPr/>
        </p:nvPicPr>
        <p:blipFill>
          <a:blip r:embed="rId1"/>
          <a:stretch/>
        </p:blipFill>
        <p:spPr>
          <a:xfrm>
            <a:off x="6730920" y="3200400"/>
            <a:ext cx="1370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terless Hand Clea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d safe during routine pt.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K when hands not visibly dirty or not contaminated with blood or body fl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 hands until dry-at least 20 seco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use soap and water to wash hands after 6-10 cleanings with waterless hand cleans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 facility poli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 CDC Guideli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imes when hand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 washed with soap &amp; wat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tridium difficile……. C. dif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bly so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using bath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Alcohol based hand cleaners are not to be used in the above in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ndwash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jor aspect of standard precau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important aseptic techniqu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DC published new recommendations in 2002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#1 technique in preventin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the spread of disea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j0088984"/>
          <p:cNvPicPr/>
          <p:nvPr/>
        </p:nvPicPr>
        <p:blipFill>
          <a:blip r:embed="rId1"/>
          <a:stretch/>
        </p:blipFill>
        <p:spPr>
          <a:xfrm>
            <a:off x="1905120" y="2152800"/>
            <a:ext cx="5364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nds are perfect media for spread of pathoge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BD05149_"/>
          <p:cNvPicPr/>
          <p:nvPr/>
        </p:nvPicPr>
        <p:blipFill>
          <a:blip r:embed="rId1"/>
          <a:stretch/>
        </p:blipFill>
        <p:spPr>
          <a:xfrm>
            <a:off x="457200" y="2440080"/>
            <a:ext cx="40338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rposes of handwash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vent and control spread of pathoge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tection from disease &amp; illn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mes hands should be wash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 When arriving &amp; before leaving fac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j0079068"/>
          <p:cNvPicPr/>
          <p:nvPr/>
        </p:nvPicPr>
        <p:blipFill>
          <a:blip r:embed="rId1"/>
          <a:stretch/>
        </p:blipFill>
        <p:spPr>
          <a:xfrm>
            <a:off x="4653000" y="1830240"/>
            <a:ext cx="4033800" cy="40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 Before &amp; after every patien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pe02716_"/>
          <p:cNvPicPr/>
          <p:nvPr/>
        </p:nvPicPr>
        <p:blipFill>
          <a:blip r:embed="rId1"/>
          <a:stretch/>
        </p:blipFill>
        <p:spPr>
          <a:xfrm>
            <a:off x="457200" y="1884240"/>
            <a:ext cx="40338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.  Contaminated hand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.  Before &amp; after glo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.  Before &amp; after handling specim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 After contact with contaminated it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PE01736_"/>
          <p:cNvPicPr/>
          <p:nvPr/>
        </p:nvPicPr>
        <p:blipFill>
          <a:blip r:embed="rId1"/>
          <a:stretch/>
        </p:blipFill>
        <p:spPr>
          <a:xfrm>
            <a:off x="461880" y="1600200"/>
            <a:ext cx="4024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20:49:39Z</dcterms:created>
  <dc:creator> </dc:creator>
  <dc:description/>
  <dc:language>en-US</dc:language>
  <cp:lastModifiedBy>kyoung.av</cp:lastModifiedBy>
  <dcterms:modified xsi:type="dcterms:W3CDTF">2011-08-29T21:05:17Z</dcterms:modified>
  <cp:revision>14</cp:revision>
  <dc:subject/>
  <dc:title>Hand Washing</dc:title>
</cp:coreProperties>
</file>